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03D-30DB-41CB-B07E-8290527E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2FC-49FD-4E01-ACB5-122B692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2BA2E-8F08-43A7-BF3B-3F10E32D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3F090-B92E-4C60-AE1D-1FAD508A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BC24-617F-4985-A5E4-A2A2B0E9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C69B-A9A5-4B9A-B15E-2CF52C0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3D5C-B580-4BCD-9226-9375DC4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7345F-CDAC-4B33-9D98-64C44BB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CEFA-62A0-4378-A000-F7F8D41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4FE56-1E5C-42BB-BD96-CF3EE69E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6DCFE-6AFB-4B25-909B-9AA7D2A8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A1BC3-36B3-43CD-9806-C35AA610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31F-7F0C-41F4-A744-167A6634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6ACF3-13FF-4BEA-9974-D522954C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B0500-1B62-4BD3-8142-AFA76B15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57FA4-F711-4C62-B8A6-2828AD9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8AC4F-99FE-4436-B78A-1E906E9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08415-FC2F-4646-9E21-09DF154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8BF5-181A-46DB-BE98-348A1B1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5950-4B55-4915-B200-5B98FC5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02A04-013A-4638-AFE3-8D48F30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A9517-94DE-4292-AC20-CA85285C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D27D8-3BAE-40BB-8390-BAD516C4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188-AFAF-413A-BE9F-E040DF1F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35DEF-3EFB-4D01-94E4-7665C130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6806-C672-4AA7-B740-97056A23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4308-3B58-4703-ACE5-02F0972C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E71EB-AA00-4DAA-B009-171D97D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CDA4-67CF-4524-B79F-CE49509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CC1D0-0FEA-4B98-A18E-36E1626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7F4B-DDBF-41E0-9961-0D2C89C9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3872-D003-4FA5-9232-9D82BE6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C209B-AE97-4764-A45A-25E3495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6C132-7F29-4CBC-A80D-8A7F9A3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D6F-90EB-4390-9698-4A455273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73D97-36E9-4ECC-AB9D-565E957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FF669-4AED-4ACB-B3DA-674571A8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9830-DE76-49C6-8046-12194B85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CE3FF-CFA7-40C6-AA52-5DA97111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32CD9-4A91-4267-B1E1-6872AE6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3CF50-C397-420E-8575-7269A56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54A8E-6A32-4CC5-93CC-2473579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132B1-6BF6-411F-B195-03BE3F9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C883D-C87C-4275-97EF-D93EAD5E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BF79C-A69F-46AA-8E2F-3D00C9A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F2C-068C-46E0-94C2-92DF7D30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7C75E-087E-4263-AB3E-AF8D71F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8BBC6-D0F8-456F-9AA8-8C8A64E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4C13A-1C6A-42D5-8E90-8F69AC4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0F167-3209-41EA-BB3C-A5205DD5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1680F-D51F-4879-863F-4260D50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683-965A-4E82-9C90-9A455746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D92C-CA0E-4A6A-BF3A-6D04C5F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A26-EA6C-4143-A48E-8CDB733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0C3-882D-4DE9-901B-F4B0C1F5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9D3-AED8-4A13-BFE4-EAEEA30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0B0-9D03-444B-A0F8-7660DF0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04C-8366-4E45-B404-28F8D71C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0F20-C04F-46D9-BFAA-0AA69C12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B17-9F8F-49B9-A9B4-464E959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ADCE-9326-4ADE-8CB0-62B456A0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9120-EFB1-437F-A8B6-531320D2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AAE4-9561-48DD-A790-11D14622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A28A-6ED9-4027-BEE6-878F38F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3AF6-6364-4DAD-B3D6-F5AF0C61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622A-57F3-4EF8-9CE2-50FEB953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87FF-7D97-4E78-8566-1E5E0C3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9CE-27D4-4BF3-BF3E-308DC97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AE51-7F28-4BA2-ADD2-DB2F219B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234A-48EF-45F2-97F1-4E64EC6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8E53-FC4A-4C32-A74C-8EB1C754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EDA6-2441-465D-ADF4-BDE318A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F8A8-C1CC-4234-A934-86C51E6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0A73-6FDC-4270-AC40-FEF03E1D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B265-795C-4E17-9999-057311DC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9A8D-5D68-4546-A2FE-49EC5E83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78AC6-DE74-472C-BC09-A1DDAC44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35CC-FA74-4AAA-A3E7-3A8B5C4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B21-AFC2-46DD-9510-B0F7B23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EE83-93A9-4267-AD6B-9797641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56E9-A05D-4AE0-9DF0-17F834B3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BD3B-D0C6-4519-A47B-F65212A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7A8A-4249-42D0-87F4-A936E47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BD58-E1CA-48FC-8FEF-6262B61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3CD8-D07E-4A36-B91C-2B24494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5640-FE1E-40E4-86FF-9E73D1A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96EE-7116-4538-8421-D08E6E41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023F-19D9-43EF-A16C-6B42EF60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6408-D59D-432A-9E71-54D42B6F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58D-96E3-4CDA-A839-41982A7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622A-E6FA-4157-9DFF-A435278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8432-02AC-4D42-9DA5-3770EF4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A524-844D-4F05-84C5-3BDB22B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32C4-CB7A-40B3-BBE9-FFC95DD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6E24-1BDA-43FE-A061-81D9996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44F2-178E-47C1-AB10-435F03F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9D53-CF2B-4EA0-85D3-2296AFF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5E15-4E46-45C3-90AA-2B24BEEB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2D94-F814-4464-A653-A1708034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E6F9-197C-4795-BC1C-7A5A239C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6F2-B81C-41AC-B352-4DDDF66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DF0F-1A0C-4B9D-8A5B-1B6FBF03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ECCF-853B-41AF-A09A-D16C221B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61D5-B7B3-4468-A8E3-3FC8704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4F07-C1CD-40BF-AF78-1CFC751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220C-F495-4077-B1F9-C2DC393C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C531-EA20-43BA-93D7-CCAEF22F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28D6-6643-47FC-8095-F74D360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6706-52C0-4FFD-A51D-CC427C7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DA8C-4672-4C2B-B51D-F542999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30E4-AD2F-434C-84C6-5D8B0309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1FB-0483-4439-9B45-1A29A91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F982-F96D-4EE5-AF39-8C8B880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2AE5-5FD2-4CBA-81EE-268D03FC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AB55-CD5C-4E08-9882-7131886A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8881-7D90-4099-AB15-EBFE0F0D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09D8-E896-4B1B-A3B4-9B26248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DD6D3-F41E-4B7D-9559-8AF696A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F1450-E84A-4CC0-AFC6-70F7C0F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EED6-DB28-4C21-8121-E09493B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69BA-6CD3-418B-9229-BEA845B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D984-F4AC-4E2F-A323-CFD032E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B4E-58B8-42A9-A83E-E906426D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87B5-9081-4417-B352-118EDBC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6194-F873-4B7C-ADFD-0F50548F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CD56-DFC6-45D0-B1FB-0F2AAAB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5526-8662-4CF1-968C-B7399674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6EDD-48B5-4581-A1E3-C82164A6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FA536-3689-4996-B1DC-467AF04D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89D1-6011-4678-9FA7-CC76141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B038-B727-4B5D-9604-3784233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F400-DC54-4D3F-816E-4E89007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A6D37-32B1-457F-A091-A642363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46C-010C-4725-B173-91DBCAD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10865-9C49-4DCE-884B-11CB55F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90028-E964-446D-B5E9-36D8DE3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8ABE1-8762-44CD-B73F-951B199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AD0A6-28E9-4274-A03E-6211516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D8CC-5CBF-4DF6-A42F-D9010A9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3751-5546-48A8-8741-66E9F95B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CD82-EB0C-4728-A61A-46C3496D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B07F4-3B46-4B3B-AFC8-FF4EE589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65A55-2946-4225-8048-37A59DC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900DA-E0F9-453A-9F83-4AC18D3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5190-6E84-484E-84A0-5C149C3A69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B5DA-9850-4448-999E-C8049B3E66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E1C-9E6C-42A3-A27F-ECC9654E33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D57-7B2F-40D0-81FF-2EE914BAC5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21CE-EA62-44C6-9F6E-CFDCBAE384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3D6D-5AFD-40C8-9530-D8340C4912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D4E-E5E1-45B9-962A-810728C394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FA1-8416-4775-9F3B-4159AD82CC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7E7-34FF-4ABA-AC75-AFD5D1D5EC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A82-EFE0-4FBA-AA56-480323BF88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B79-9DE0-458F-AF4F-0A5D6FE8BB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F96-0BA0-405A-B38D-0EDABE415C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2 T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m k nebu zalet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úžim k nebu zalet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asiteľa uvid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, kde v bránach dom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á nár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Otc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úžby moje letia v 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je on, môj Boha a Kráľ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sa k nemu privin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jeho láske s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udzinou je táto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mov, domov túžim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, kde Pán môj lásk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esto aj mne priprav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smierna to bude sla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ť tú krásnu uzrieť vla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cť v tej ríši rad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ložiť bremä star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ymny chvály, rad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ievať budem z 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, kde Pán Boh bude sám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lnk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svetl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chrám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ná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kde Kristus,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vojej sláve dá mi d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ruje mi z 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úcho spravodliv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2:00Z</dcterms:modified>
  <cp:revision>22</cp:revision>
  <dc:subject/>
  <dc:title>Je veľký náš Pán, on slávy je Kráľ Nech do všetkých strán  spev vrúcnych znie chvál.</dc:title>
</cp:coreProperties>
</file>